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B3A6-C26B-4255-8DF1-317A97A1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869-C1BC-4AC9-8BBA-98AAE6D1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E9B-23FB-4D1D-8619-94B02148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4DD2-50AF-412F-93CB-185EEAFC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145A-A7BB-480B-897C-8A92ECFD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715E-321E-4A57-B543-BB171427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0353-6589-4C8E-80FE-322BBD29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F3D7-41A7-4ECD-AB9A-EE3AB1E7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92AF-3B96-4CD3-83DC-0CF785DF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E5C4-15B0-47F3-B87D-F50AD09D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3BC3-F684-4D7E-B3AC-1C3086E6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8A69-BAFB-4DA2-A63B-513E7A0E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F7E5-735C-4DCB-9D76-5B56AFF5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E8D2-4FF6-4405-B20B-3EF15FB2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7BB1-2243-4704-ADD7-7C7AE10C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A7B2-9D1B-4AE4-B01A-A04A131C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E130-641D-4938-AA79-86B88B49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E33D0-C763-4C94-BBBC-36DD5D5C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A752D-D6F5-4164-BAA3-068EAAB7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30E89-DF01-4C23-90E8-71D38A17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BB5C4-87E0-41F7-AFA6-60B93E9A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6998E-86F5-43A2-9F6B-0CBA11DE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785-3221-4270-94E4-D0194174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73A09-2C99-46D7-B44A-66BDB3EA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EAF72-1498-4455-8143-10A4B096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B7B33-D8A8-416B-958E-BA6C861A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F1905-353E-4044-8188-7ED3B41A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F66C9-18AB-4FEB-B8F3-310C161F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5CD98-6F21-4FB4-ADE4-FC598F83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2F018-16BB-48EA-AEEE-83A8EFB0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9DD16-04E0-40C6-8F9D-CB236AC2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47553-11E5-4411-80AB-951E5330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3B836-8039-4C18-A8D5-65AAA4D1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BFAD-8796-4B0C-9938-3E1BE11B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59BB1-E8C1-42E7-B385-587736C8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A6219-877B-4BAD-8FB5-3F022F80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DC1CB-5084-4866-9DDB-6E9C9E2E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A5621-C9DC-4DB2-A950-6D4F67AD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1FB26-CBED-412D-95AA-DEDFD2B9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0A4C7-D44E-45EE-BBB3-23FCA82C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F761C-6D70-4698-A4AB-E539487F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A3F4B-1F17-4D28-A0A5-2F1115F3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31AD2-50E9-4DBE-BC3D-A51ED249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440DD-4534-4A11-A19D-9FC0C82E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5263-0DE4-4CA3-95C2-D621CB99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FF46A-6EA6-4C9E-BE5B-0FCBCBAC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D6D65-A322-405A-89FC-3A54CB7D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E5622-30A6-4735-BF71-6DA8A3BF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25909-ECA3-4C17-8405-36858386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F4759-63E8-42A0-82CB-C409B5EC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5D47D-65DB-4B2C-8854-1EEEC216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2B906-84EF-4687-AB10-6EBF6DC6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FB49B-C5F0-4FB8-BD82-7BACA077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A2CD6-4CAF-4B6C-A9DA-772EB43C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B6755-6503-4940-B2C8-C3960B1D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5D87-3BB3-496D-8A97-659A81D4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FDB92-D256-4196-9339-D18FA102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FDC8-39C9-4181-9E8A-AB3130C5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8FD6-1454-402F-BDF4-7AA2D06D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E1C-6972-4157-BA17-7FCE3EA4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aa2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71685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3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4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63F6-8BD6-45A4-90D5-0E683A61EE8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aa2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71685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3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4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92BB-6EA8-42CC-81DC-763A46523BC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aa2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71685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3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4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8267-0363-467C-ABB0-AE2EEC376C7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aa2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71685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3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4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65e9c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AD22-C44F-47F5-936C-03B97F39F260}" type="slidenum">
              <a:rPr b="0" lang="en-US" sz="1600" spc="-1" strike="noStrike">
                <a:solidFill>
                  <a:srgbClr val="465e9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aa2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71685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3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4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4C40-9A40-426A-9B8A-71DAD6489D4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HAPTER 7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Tunga"/>
              </a:rPr>
              <a:t>ENTERTAINMENT MARKETING</a:t>
            </a:r>
            <a:endParaRPr b="1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eisure Tim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Free time for work or duties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reak even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Have costs and expenses equal the income revenue 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Today it costs about $90 million to produce a major film and about $40 million to market it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When a film proposal looks favorable, it is greenlighted, or given approval for production by the studio management 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ligopol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22240" y="1099800"/>
            <a:ext cx="752184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tudios including Universal, Paramount, Disney, MGM, and a few others are the core of the film industry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usiness situation in which a few firms affect but do not control an industry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However there are independent movie companies, indies, that are not affiliated with major studios but still produce film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lair Witch Project was made for $35,000…how much did it make?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me Park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irst amusement park was called “Pleasure Gardens” in Europe around 1550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In 1583 the world’s oldest amusement park, Bakken, opened near Copenhagen, Denmark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Disneyland was created in the 1950’s 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Cost to create a ride can be $50 million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ffiliat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2240" y="1099800"/>
            <a:ext cx="752184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n independent broadcaster that contracts with larger national networks for programming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838080" y="2160720"/>
            <a:ext cx="7521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atings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838080" y="2895480"/>
            <a:ext cx="752184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he rankings of a TV-show or radio-show popularity in certain time period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usic Industry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A record company is called a lab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In the early 1980’s MTV appeared and revolutionized the music business with music videos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The music industry has lost money as a result of illegal file sharing and downloading of music for free off the Internet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Napster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erforming Ar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22240" y="1100160"/>
            <a:ext cx="75218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rom major productions on Broadway – the theatre district in NYC – plays in local venues, theater is a popular entertainment provider 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0" name="Content Placeholder 2"/>
          <p:cNvSpPr/>
          <p:nvPr/>
        </p:nvSpPr>
        <p:spPr>
          <a:xfrm>
            <a:off x="968400" y="2046240"/>
            <a:ext cx="752148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Academy Award – Film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Golden Globe – Film &amp; TV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Emmy – TV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Grammy – Music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Tony – Theater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NTERTAINMENT MARKETING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2240" y="1100160"/>
            <a:ext cx="7521840" cy="17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he process of developing, promoting, and distributing products, or goods and services, to satisfy customers’ needs and wants through entertainment, or any diversion, amusement or method of occupying times 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19" name="Picture 2" descr="http://upload.wikimedia.org/wikipedia/commons/thumb/0/01/Retiarius_stabs_secutor_(color).jpg/220px-Retiarius_stabs_secutor_(color).jpg"/>
          <p:cNvPicPr/>
          <p:nvPr/>
        </p:nvPicPr>
        <p:blipFill>
          <a:blip r:embed="rId1"/>
          <a:stretch/>
        </p:blipFill>
        <p:spPr>
          <a:xfrm>
            <a:off x="380880" y="2819520"/>
            <a:ext cx="2095560" cy="2000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http://upload.wikimedia.org/wikipedia/commons/thumb/8/8c/Title_page_William_Shakespeare's_First_Folio_1623.jpg/220px-Title_page_William_Shakespeare's_First_Folio_1623.jpg"/>
          <p:cNvPicPr/>
          <p:nvPr/>
        </p:nvPicPr>
        <p:blipFill>
          <a:blip r:embed="rId2"/>
          <a:stretch/>
        </p:blipFill>
        <p:spPr>
          <a:xfrm>
            <a:off x="3809880" y="2716200"/>
            <a:ext cx="1371600" cy="2182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http://upload.wikimedia.org/wikipedia/en/thumb/3/3e/CatsMusicalLogo.jpg/215px-CatsMusicalLogo.jpg"/>
          <p:cNvPicPr/>
          <p:nvPr/>
        </p:nvPicPr>
        <p:blipFill>
          <a:blip r:embed="rId3"/>
          <a:stretch/>
        </p:blipFill>
        <p:spPr>
          <a:xfrm>
            <a:off x="6400800" y="2739960"/>
            <a:ext cx="2048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OW MUCH T.V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22240" y="1100160"/>
            <a:ext cx="752184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On average people spend almost 3 hours a day watching television.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98% of all homes have at least 1 T.V. set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24" name="Picture 2" descr="http://www.smartgirl.org/writing/forum/images/television.jpg"/>
          <p:cNvPicPr/>
          <p:nvPr/>
        </p:nvPicPr>
        <p:blipFill>
          <a:blip r:embed="rId1"/>
          <a:stretch/>
        </p:blipFill>
        <p:spPr>
          <a:xfrm>
            <a:off x="838080" y="2590920"/>
            <a:ext cx="2590920" cy="2340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http://1.bp.blogspot.com/-inAvS2ZZSQE/UBE8EU3aknI/AAAAAAAAACY/VY2JhmWMsYw/s1600/lcd_television.jpg"/>
          <p:cNvPicPr/>
          <p:nvPr/>
        </p:nvPicPr>
        <p:blipFill>
          <a:blip r:embed="rId2"/>
          <a:stretch/>
        </p:blipFill>
        <p:spPr>
          <a:xfrm>
            <a:off x="5257800" y="2579760"/>
            <a:ext cx="33526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NTERTAINMENT INDUSTR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22240" y="1099800"/>
            <a:ext cx="752184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Ranked in terms of time spent using the form of entertainment: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Television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Radio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Recorded music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Newspaper and magazines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Video games (home or arcade)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ilms (theatrical or home) 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28" name="Picture 2" descr="http://www.marklafay.com/blog/wp-content/uploads/2011/01/Radio.jpg"/>
          <p:cNvPicPr/>
          <p:nvPr/>
        </p:nvPicPr>
        <p:blipFill>
          <a:blip r:embed="rId1"/>
          <a:stretch/>
        </p:blipFill>
        <p:spPr>
          <a:xfrm>
            <a:off x="6172200" y="2057400"/>
            <a:ext cx="2631960" cy="2351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ttp://www.hcpl.net/sites/default/files/magazine_2.jpg"/>
          <p:cNvPicPr/>
          <p:nvPr/>
        </p:nvPicPr>
        <p:blipFill>
          <a:blip r:embed="rId2"/>
          <a:stretch/>
        </p:blipFill>
        <p:spPr>
          <a:xfrm>
            <a:off x="2057400" y="3581280"/>
            <a:ext cx="373392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22240" y="1099800"/>
            <a:ext cx="75218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he methods used for communication or transmitting messages 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Media include film, television, radio publishing media, the internet, and more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he companies that control the media and media offerings are large businesses such as Disney, Sony, Universal, and NBC and other television networks. 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32" name="Picture 2" descr="http://static.tumblr.com/qzjgaoc/afKliwh77/disney.jpg"/>
          <p:cNvPicPr/>
          <p:nvPr/>
        </p:nvPicPr>
        <p:blipFill>
          <a:blip r:embed="rId1"/>
          <a:stretch/>
        </p:blipFill>
        <p:spPr>
          <a:xfrm>
            <a:off x="5715000" y="3276720"/>
            <a:ext cx="1523880" cy="1807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http://www.bigandroidbbq.com/wp-content/uploads/2012/10/sony_logo.jpg?9d7bd4"/>
          <p:cNvPicPr/>
          <p:nvPr/>
        </p:nvPicPr>
        <p:blipFill>
          <a:blip r:embed="rId2"/>
          <a:stretch/>
        </p:blipFill>
        <p:spPr>
          <a:xfrm>
            <a:off x="1905120" y="342900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hort term popular trend, style, product, or service 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36" name="Picture 2" descr="http://iws.iwswebsites.com/wp-content/uploads/2009/09/abc_fads_090508_mn.jpg"/>
          <p:cNvPicPr/>
          <p:nvPr/>
        </p:nvPicPr>
        <p:blipFill>
          <a:blip r:embed="rId1"/>
          <a:stretch/>
        </p:blipFill>
        <p:spPr>
          <a:xfrm>
            <a:off x="3276720" y="20923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NTERTAIN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MARKETING CONCEPT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61760" y="1295280"/>
            <a:ext cx="752148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Movie and tv studios are constantly striving to anticipate customer wants and needs – which is the function of the marketing concept – and provide what the public want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he challenge for studios, theme park owners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nd performers is to keep the custom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ming back for more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39" name="Picture 2" descr="http://upload.wikimedia.org/wikipedia/en/thumb/1/1d/Rct-box.jpg/256px-Rct-box.jpg"/>
          <p:cNvPicPr/>
          <p:nvPr/>
        </p:nvPicPr>
        <p:blipFill>
          <a:blip r:embed="rId1"/>
          <a:stretch/>
        </p:blipFill>
        <p:spPr>
          <a:xfrm>
            <a:off x="6781680" y="2535120"/>
            <a:ext cx="17416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ntertainment and Consumer  Spending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ntertainment marketing relies on meeting consumer demand for diversion and excitement at a price the customer is willing to pay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ross Sellin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he method of selling the customer additional related products tied to one nam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3:01:10Z</dcterms:created>
  <dc:creator>Windows User</dc:creator>
  <dc:description/>
  <dc:language>en-US</dc:language>
  <cp:lastModifiedBy>Windows User</cp:lastModifiedBy>
  <dcterms:modified xsi:type="dcterms:W3CDTF">2012-12-12T13:07:39Z</dcterms:modified>
  <cp:revision>12</cp:revision>
  <dc:subject/>
  <dc:title>Chapter 7</dc:title>
</cp:coreProperties>
</file>